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AF9-140C-44B8-910B-F265AF3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DBB6-6E08-42A2-AE2C-DA852EB9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A06-18A9-443E-A204-17B68777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9BBB-36CE-4C13-8D03-D98B12CC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457-E828-447A-968A-7264556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1EB3-9638-42DE-9092-B00F8F25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DC4-180B-46DE-A472-5F49AA26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1DF8-FA04-40A8-BA87-2AF20D81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7C6-1229-408F-9920-0EF778E3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AA3-5C16-4C59-833E-18070F6C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FB7-D936-4B5B-A22A-256BF6B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E8F3-EE44-454E-B246-C1DB4CB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E79A-89BA-4DA1-ADF3-A8610F87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44280"/>
            <a:ext cx="496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orang-utan</a:t>
            </a:r>
            <a:endParaRPr b="0" lang="en-US" sz="1800" spc="1" strike="noStrike">
              <a:ln w="41400">
                <a:solidFill>
                  <a:srgbClr val="00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341360"/>
            <a:ext cx="91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orneo and Sumatran forests  are home to many orang-utans. Lots of trees in these forests have been bulldozed down for palm tree plantations, and some orang-utans have been killed during the process.  The bulldozing has also destroyed their homes and f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Orang-utan means ‘person of the forest’ because they are very much like humans . They have arms that can be 2 metres long. But their population has dropped 35% in the last 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ale orang-utans have puffy cheeks for mating calls. All orang-utans have to make their nest every night, orang-utans eat leaves, bark and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By Jack Johnson Senior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3:21:18Z</dcterms:created>
  <dc:creator>Admin</dc:creator>
  <dc:description/>
  <dc:language>en-US</dc:language>
  <cp:lastModifiedBy>02028372</cp:lastModifiedBy>
  <dcterms:modified xsi:type="dcterms:W3CDTF">2009-03-05T02:25:01Z</dcterms:modified>
  <cp:revision>3</cp:revision>
  <dc:subject/>
  <dc:title>Slide 1</dc:title>
</cp:coreProperties>
</file>